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9C0-ECE2-442C-9E4B-FB1EE609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983-DA2B-4F2E-B52C-B56328B2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7A9-536D-4F68-847C-9548F4C9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074-4CF8-49CC-A6EC-C74BB839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0BE2-765D-4A8E-97A5-7372AF8A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42C-B949-4E47-9525-91FC1CFA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DBA7-F503-40F4-9417-4FA29C69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4FB9-A628-42EF-9883-0A0EF0A8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760B-C0FF-484B-8743-03E87F4E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0DE-CE36-47A1-B3A7-8D4FDBE8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047A-73CF-4A34-8E4A-FDEE372F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3623-1C9F-4A9A-9BE4-01CD6307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A7CB-A244-459D-87B8-71212F0F3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447920" y="609480"/>
            <a:ext cx="61722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Curlz MT"/>
              </a:rPr>
              <a:t>Prefixes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Curlz MT"/>
              <a:ea typeface="Curlz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Curlz MT"/>
              </a:rPr>
              <a:t>and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Curlz MT"/>
              <a:ea typeface="Curlz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Curlz MT"/>
              </a:rPr>
              <a:t>Suffixes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2057400"/>
            <a:ext cx="807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	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“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Gee, thanks,” said Randy, hopping on the bike.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09480" y="26668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	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“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See, I can be </a:t>
            </a:r>
            <a:r>
              <a:rPr b="0" lang="en-US" sz="4800" spc="-1" strike="noStrike">
                <a:solidFill>
                  <a:srgbClr val="ff6600"/>
                </a:solidFill>
                <a:latin typeface="Arial Rounded MT Bold"/>
              </a:rPr>
              <a:t>likable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!” said Jake with a grin.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609480" y="1143000"/>
            <a:ext cx="7925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A </a:t>
            </a:r>
            <a:r>
              <a:rPr b="0" lang="en-US" sz="6600" spc="-1" strike="noStrike">
                <a:solidFill>
                  <a:srgbClr val="ff6600"/>
                </a:solidFill>
                <a:latin typeface="Arial Rounded MT Bold"/>
              </a:rPr>
              <a:t>prefix</a:t>
            </a: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 is a word part added to the beginning of a root word.</a:t>
            </a:r>
            <a:endParaRPr b="0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609480" y="1523880"/>
            <a:ext cx="7925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A </a:t>
            </a:r>
            <a:r>
              <a:rPr b="0" lang="en-US" sz="6600" spc="-1" strike="noStrike">
                <a:solidFill>
                  <a:srgbClr val="ff6600"/>
                </a:solidFill>
                <a:latin typeface="Arial Rounded MT Bold"/>
              </a:rPr>
              <a:t>prefix</a:t>
            </a: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 changes the meaning of a word.</a:t>
            </a:r>
            <a:endParaRPr b="0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33520" y="1447920"/>
            <a:ext cx="7924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A </a:t>
            </a:r>
            <a:r>
              <a:rPr b="0" lang="en-US" sz="6600" spc="-1" strike="noStrike">
                <a:solidFill>
                  <a:srgbClr val="ff6600"/>
                </a:solidFill>
                <a:latin typeface="Arial Rounded MT Bold"/>
              </a:rPr>
              <a:t>suffix</a:t>
            </a: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 is a word part added to the end of a root word.</a:t>
            </a:r>
            <a:endParaRPr b="0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609480" y="1523880"/>
            <a:ext cx="7925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A </a:t>
            </a:r>
            <a:r>
              <a:rPr b="0" lang="en-US" sz="6600" spc="-1" strike="noStrike">
                <a:solidFill>
                  <a:srgbClr val="ff6600"/>
                </a:solidFill>
                <a:latin typeface="Arial Rounded MT Bold"/>
              </a:rPr>
              <a:t>suffix</a:t>
            </a: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 also changes the meaning of a word.</a:t>
            </a:r>
            <a:endParaRPr b="0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990720" y="914400"/>
            <a:ext cx="350496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495680" y="914400"/>
            <a:ext cx="35053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990720" y="2057400"/>
            <a:ext cx="3504960" cy="380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495680" y="2057400"/>
            <a:ext cx="3505320" cy="380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219320" y="10666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Prefixes We Know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724280" y="12193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Exampl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219320" y="2209680"/>
            <a:ext cx="3124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im- 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no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in-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no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bi-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tw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non-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no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dis-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not or opposite of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648320" y="2286000"/>
            <a:ext cx="3124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improp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incomple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bicyc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nonstop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disagre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990720" y="914400"/>
            <a:ext cx="350496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495680" y="914400"/>
            <a:ext cx="35053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990720" y="2057400"/>
            <a:ext cx="3504960" cy="380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495680" y="2057400"/>
            <a:ext cx="3505320" cy="380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219320" y="10666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Suffixes We Know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724280" y="12193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Exampl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219320" y="2209680"/>
            <a:ext cx="3124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-er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one wh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-or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 one wh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-less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 witho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-able, -ible  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can b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648320" y="2286000"/>
            <a:ext cx="3124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farm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acto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usele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buildab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reversib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685800" y="533520"/>
            <a:ext cx="80773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	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Randy’s bike tire was flat.  He couldn’t find the pump because the garage was in </a:t>
            </a:r>
            <a:r>
              <a:rPr b="0" lang="en-US" sz="4800" spc="-1" strike="noStrike">
                <a:solidFill>
                  <a:srgbClr val="ff6600"/>
                </a:solidFill>
                <a:latin typeface="Arial Rounded MT Bold"/>
              </a:rPr>
              <a:t>disorder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.  “It’s hopeless,” said Randy.  “I’ll never make it to the soccer game on time.”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533520" y="1752480"/>
            <a:ext cx="8076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	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“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That’s </a:t>
            </a:r>
            <a:r>
              <a:rPr b="0" lang="en-US" sz="4800" spc="-1" strike="noStrike">
                <a:solidFill>
                  <a:srgbClr val="ff6600"/>
                </a:solidFill>
                <a:latin typeface="Arial Rounded MT Bold"/>
              </a:rPr>
              <a:t>nonsense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,” said his brother Jake.  “You can use my bike.”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02:03:29Z</dcterms:created>
  <dc:creator>Resource User</dc:creator>
  <dc:description/>
  <dc:language>en-US</dc:language>
  <cp:lastModifiedBy>teacher</cp:lastModifiedBy>
  <dcterms:modified xsi:type="dcterms:W3CDTF">2011-02-13T14:28:37Z</dcterms:modified>
  <cp:revision>2</cp:revision>
  <dc:subject/>
  <dc:title>PowerPoint Presentation</dc:title>
</cp:coreProperties>
</file>